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24534"/>
        <c:axId val="19808858"/>
      </c:barChart>
      <c:catAx>
        <c:axId val="30424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8858"/>
        <c:crosses val="autoZero"/>
        <c:auto val="1"/>
        <c:lblAlgn val="ctr"/>
        <c:lblOffset val="100"/>
        <c:noMultiLvlLbl val="0"/>
      </c:catAx>
      <c:valAx>
        <c:axId val="19808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24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AE4-3E1E-4D96-8CB5-AEBED12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E08-DCFB-41A4-A369-EE7A51F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AEC-D774-400D-9675-A1217031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CDE-0D89-4204-93AB-ECA8D56F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59E-5741-456D-8AEB-18A01BD2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F97-B292-49B4-A699-47A5A2D2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B88-EE0D-49BD-AE55-2ED61D2D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D3A-7B11-4C1A-BF1A-DB25F77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93E-3F94-474D-B163-04F9477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92B-382F-4602-B771-975EE23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D53-4C97-4A05-8809-A8817BA6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0FD-B6B7-4906-87F9-CE6E85C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5C4ED-FE58-4DDF-A2CF-11E558770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