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4307"/>
        <c:axId val="82711336"/>
      </c:barChart>
      <c:catAx>
        <c:axId val="2394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11336"/>
        <c:crosses val="autoZero"/>
        <c:auto val="1"/>
        <c:lblAlgn val="ctr"/>
        <c:lblOffset val="100"/>
        <c:noMultiLvlLbl val="0"/>
      </c:catAx>
      <c:valAx>
        <c:axId val="82711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5A3-1176-4D20-9B33-D1C44120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C82-DD51-40FA-AACF-69F0176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D36-1F6B-4898-9C60-9F5D8CC8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199-275D-4855-AAAC-2BA609C2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DA5-C934-458E-95AA-B19B308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2E1-F90C-43D1-8728-E2FAD3E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612-F941-4C2A-BF25-10826BBE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B66-B241-4BBA-91AF-D144261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DB2-FF1F-449A-9D13-6AABDB14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A30-BC0A-4F96-8E73-4DE0290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BF3-CA51-4E3D-8138-CF07E57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0EB-6621-4CF5-9E61-012459E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E204C-069B-4F15-BBCA-A15906FE1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