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79043"/>
        <c:axId val="29516832"/>
      </c:barChart>
      <c:catAx>
        <c:axId val="84279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16832"/>
        <c:crosses val="autoZero"/>
        <c:auto val="1"/>
        <c:lblAlgn val="ctr"/>
        <c:lblOffset val="100"/>
        <c:noMultiLvlLbl val="0"/>
      </c:catAx>
      <c:valAx>
        <c:axId val="295168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79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42F-8C52-4927-A0BD-5EC43E8D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0E5-B605-49AB-897B-082D359D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700-1B5D-4266-B357-7E8F0DB2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E27-64D0-427F-A340-44349659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714-4623-462D-B00A-C8D0EE73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647-19DB-4DAB-B652-7ED94332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A8F-5203-4D4F-A164-7164A516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E70-5484-4F1A-9995-0DC1EB6A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B60-B196-44BE-A07A-B7FEF0E7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9B5-CF0A-4DBF-ACDD-FDDAF1DA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539-CCE8-4CE6-8B11-0B545E70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23D-1D16-4ABF-912C-63AFF991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41796-6395-4C6A-83EC-28E81520B1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