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46895"/>
        <c:axId val="8518820"/>
      </c:barChart>
      <c:catAx>
        <c:axId val="9924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8820"/>
        <c:crosses val="autoZero"/>
        <c:auto val="1"/>
        <c:lblAlgn val="ctr"/>
        <c:lblOffset val="100"/>
        <c:noMultiLvlLbl val="0"/>
      </c:catAx>
      <c:valAx>
        <c:axId val="8518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E61-4AE9-4AC0-BD10-1749A06B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576-C9BA-4187-A048-C1CC42CE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02B-F0BC-40AB-8715-D836170F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7BF-19BC-4082-B7FE-54AA6B2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1AC-66B1-4148-B447-50B95C7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62B-B18F-4427-AE63-0F5D4121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455-B65A-4CAC-8F67-0FCB25A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F3D-8ADC-4CF0-8D36-9A5DB31E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238-C44F-4B73-96E5-ECE1383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80D-9469-4A78-BFC3-7194733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8AC-94F6-4AAF-AD41-64B7551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FA6-7574-4749-B545-90CB88E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10E13-2832-4AA2-B6BB-7BAA19A72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