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12620"/>
        <c:axId val="59061242"/>
      </c:barChart>
      <c:catAx>
        <c:axId val="995126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61242"/>
        <c:crosses val="autoZero"/>
        <c:auto val="1"/>
        <c:lblAlgn val="ctr"/>
        <c:lblOffset val="100"/>
        <c:noMultiLvlLbl val="0"/>
      </c:catAx>
      <c:valAx>
        <c:axId val="59061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126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9FF-38BA-4FEA-97A7-FE77C084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056-9E7D-4162-A2F2-B00B1204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832-DCB9-41C3-AFB5-00234999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B89-FBE9-4AA2-817A-90E79906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7B1-5BE8-4DC9-B586-6EBA7CA8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7BAA-D993-494E-9D77-6455AAA0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EA9-4D93-4410-97E5-4275F42D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B70-6998-42D1-8CCE-D2AFC8E1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6CC-B728-45B2-8C42-E3093D3F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FE9-EFC3-4F37-BB95-409DBA29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00A7-DA6D-4E77-9779-641E51EB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66D-90D8-4498-AE93-4A98674B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AC67F-098E-4CA2-BAE1-EE3AC793FE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