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40524"/>
        <c:axId val="49943302"/>
      </c:barChart>
      <c:catAx>
        <c:axId val="29840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43302"/>
        <c:crosses val="autoZero"/>
        <c:auto val="1"/>
        <c:lblAlgn val="ctr"/>
        <c:lblOffset val="100"/>
        <c:noMultiLvlLbl val="0"/>
      </c:catAx>
      <c:valAx>
        <c:axId val="49943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40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624-01D0-4956-84B0-7682ECC1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C3A-9E39-4CDB-A29A-72B7AA8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27A-6C08-4794-A933-C442EF30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6AC-1F61-4960-93F9-A73AB59D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501-6BC4-464C-967B-83AB488D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08D-990C-4882-BC83-CCFAA77C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E7B-3991-4ADD-BCEE-6FB29059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F28-4C7A-4E9F-B97D-A0951570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60B-6457-4872-B0BD-8A72F14C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7C8-5911-48F1-9DAE-38CC5E26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E87-53E7-4CBC-9C47-07C93C9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654-3C50-4AF2-B680-0E112D5A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821F6-ABCD-4E92-BAB9-1B3BDB8A8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