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41196"/>
        <c:axId val="36141452"/>
      </c:barChart>
      <c:catAx>
        <c:axId val="46141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41452"/>
        <c:crosses val="autoZero"/>
        <c:auto val="1"/>
        <c:lblAlgn val="ctr"/>
        <c:lblOffset val="100"/>
        <c:noMultiLvlLbl val="0"/>
      </c:catAx>
      <c:valAx>
        <c:axId val="36141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41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63F-67EB-4062-9F40-62A25025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9C2-062A-4549-9D18-F3BA294A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169-E876-4496-82B4-84918543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BF5-6EB5-40DF-AAF3-F13F77E1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825-12DA-433A-AB34-551415CD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723-0610-4547-ADF7-3A3AB585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B61-B50D-41DD-8EE2-844A93BC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B93-E271-407A-A6A3-1F6A7A5B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D0E-0D8E-4601-BCD3-208762E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A5A-50F0-4094-AE32-DF9707F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518-BD66-422B-9A19-2378770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225-AB02-4C34-86E6-D513663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39983-6E05-43B5-BF2E-7A2ADF4A8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