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59564"/>
        <c:axId val="20613127"/>
      </c:barChart>
      <c:catAx>
        <c:axId val="11459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13127"/>
        <c:crosses val="autoZero"/>
        <c:auto val="1"/>
        <c:lblAlgn val="ctr"/>
        <c:lblOffset val="100"/>
        <c:noMultiLvlLbl val="0"/>
      </c:catAx>
      <c:valAx>
        <c:axId val="20613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59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345-6578-43EC-B483-F3A21055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D05-4FED-48F1-9AF4-E6E12372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2F0-46D1-429C-A5C0-072BA2D8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080-D390-46AA-9070-1B853CE2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6DB-74E2-48F8-8F66-909E2CC1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419-FEC6-4859-AEA9-CCB392AE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EF4-5277-4A57-BB12-3240E153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BE4-C5FB-4553-BA93-5FF3D0B5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A8E-57BA-4737-9D5A-9EFDDFCE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84B-FA59-425F-871A-C0A7777B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1F3-B27A-4317-A60C-847238B0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B49-75E3-48D8-A55F-4478772F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45A43-967F-4667-8749-461AAA734F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