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09770"/>
        <c:axId val="40070821"/>
      </c:barChart>
      <c:catAx>
        <c:axId val="42509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70821"/>
        <c:crosses val="autoZero"/>
        <c:auto val="1"/>
        <c:lblAlgn val="ctr"/>
        <c:lblOffset val="100"/>
        <c:noMultiLvlLbl val="0"/>
      </c:catAx>
      <c:valAx>
        <c:axId val="40070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09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7FE-95BB-463C-8836-3C8391FF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C07-9CE3-4C2E-8030-454AE259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9A1-C36B-42C3-9572-87FF1846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106-D5DA-45C6-A6B8-9DB41EFF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9AD-3C07-4870-80C3-493364B8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5A19-2859-456D-9E35-6DF370C1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D29-D0B4-4E51-B8C9-B149B5A3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7FE-73E1-44BF-830E-27068213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BD4A-903C-4BAD-9AB8-304F047F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ABE-2BB2-4F84-B901-60D24812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1A1-AD89-4EA3-9A95-52814536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2F4-E0DB-4BD0-9336-C0E2502D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F092B-9545-467B-AA18-1B76994066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