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07043"/>
        <c:axId val="8056240"/>
      </c:barChart>
      <c:catAx>
        <c:axId val="79007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6240"/>
        <c:crosses val="autoZero"/>
        <c:auto val="1"/>
        <c:lblAlgn val="ctr"/>
        <c:lblOffset val="100"/>
        <c:noMultiLvlLbl val="0"/>
      </c:catAx>
      <c:valAx>
        <c:axId val="8056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07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DFC-F075-40E6-A9E0-5E822E0B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3C2A-8A2A-4674-82C5-3669E8CC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8E6-C2F2-4400-B4DE-03E177D3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5EE3-C99A-457A-85F5-92D0F0E0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241-B177-49D1-A393-D7D46DA0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B78-2FDD-478F-BADE-4A819610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6EF-B1E3-40F9-A633-E6745FC5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30A-2907-4B5A-8418-D2778750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D35-57E2-47A5-BF7D-95A7E7D4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94B-DC19-478D-B235-A9F58C94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6DE-5B26-4E15-8440-6B089EDC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792-5D6A-49BD-BE2E-0F9ADE1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ED269-D14F-4477-A39B-E36DD9249D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