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52893"/>
        <c:axId val="11260489"/>
      </c:barChart>
      <c:catAx>
        <c:axId val="28152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0489"/>
        <c:crosses val="autoZero"/>
        <c:auto val="1"/>
        <c:lblAlgn val="ctr"/>
        <c:lblOffset val="100"/>
        <c:noMultiLvlLbl val="0"/>
      </c:catAx>
      <c:valAx>
        <c:axId val="11260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52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408-38A7-4718-897D-AD5AAE5E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5D4-238E-498E-A2D9-28DE1367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016-1806-4CA1-983F-1E82DDC9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0A5-BD69-47F8-8D69-F785BA6C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CB8-9B3C-4BFD-82BF-D99E8F8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0D9-F946-4FF7-B127-8D096F02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81A-700B-43F6-99DC-815F912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B06-90D6-4007-AB59-B4CD276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E20-64DC-4002-BD5D-1382C76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B00-050D-4927-87B0-1833AA6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9CD-72F9-452E-A5D0-7B03FBE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D00-598B-464A-AFEB-1621EA6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66A2-7810-4DFE-99F6-E2E3756B1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