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48576"/>
        <c:axId val="37504193"/>
      </c:barChart>
      <c:catAx>
        <c:axId val="66948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04193"/>
        <c:crosses val="autoZero"/>
        <c:auto val="1"/>
        <c:lblAlgn val="ctr"/>
        <c:lblOffset val="100"/>
        <c:noMultiLvlLbl val="0"/>
      </c:catAx>
      <c:valAx>
        <c:axId val="37504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8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6FB-023D-4521-8304-AEDB3B3E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802-597F-477C-A9D4-771A9473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76F-0BB6-4CAC-BC2F-E07BB5B0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A03-8A59-44DA-B9FD-5D610C7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999-67BC-489F-8BBF-3957C8D8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402-442D-4CD6-A9E7-72685266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CD2-F04B-4D23-9584-D69B0E0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7CB-24BF-4073-8A4A-CCFE00BD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B19-34B5-47F4-853D-3D2CE6B4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C3-5249-49CC-B102-D9DF20E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FB7-1498-4727-8C6F-760A8A2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C7A-1BDB-49BB-805C-51EFB13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7B93F-F49A-4139-8BC1-7FF68C0E4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