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37491"/>
        <c:axId val="17286801"/>
      </c:barChart>
      <c:catAx>
        <c:axId val="56637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6801"/>
        <c:crosses val="autoZero"/>
        <c:auto val="1"/>
        <c:lblAlgn val="ctr"/>
        <c:lblOffset val="100"/>
        <c:noMultiLvlLbl val="0"/>
      </c:catAx>
      <c:valAx>
        <c:axId val="17286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7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7F2-258A-49D7-9B11-BA3E0ED1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448-F407-460E-85C8-F5D242D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6E8-50EB-464B-9635-0B7009E6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635-D9EC-4B4A-BA7B-08505FC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092-403D-47E0-A075-83586A1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5F4-D137-4CF4-983C-A1DC4A3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353-C476-47A7-ACA5-C6ECAC02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076-ED49-4F89-AB2C-95C8252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168-0780-4DD6-83F4-19105ED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B14-DF0C-4AE2-A198-725C2D9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0A7-30B0-44A7-BE38-FE47971A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4AC-A20E-4DC6-8F62-5D0F389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46E0E-1D6B-497B-ACC1-B77A5A2BD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