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87407"/>
        <c:axId val="12631441"/>
      </c:barChart>
      <c:catAx>
        <c:axId val="98087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31441"/>
        <c:crosses val="autoZero"/>
        <c:auto val="1"/>
        <c:lblAlgn val="ctr"/>
        <c:lblOffset val="100"/>
        <c:noMultiLvlLbl val="0"/>
      </c:catAx>
      <c:valAx>
        <c:axId val="12631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87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B9C-F101-47CE-A6C8-FE5A2831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CC67-A69F-4837-89AE-16D82441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6EE-7C4D-420E-9830-011DAAE2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75F-97B3-4C0E-804B-496FFE25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BF1-78D6-4DEB-AD87-AC20C148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5FE-FBF8-4094-9051-57B049FD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181-0948-4F7E-91C5-572A7DFE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B40-98A8-499E-9C74-1589C2E9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33C-4D91-4EE1-8617-033BF97F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081-0278-4C9F-80FC-C49A31EF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FCE-26A2-4ED3-B712-BDB9E61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E44-EF38-454D-8D5C-8C4DA780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E467A-80A1-49C1-9964-BC6BD449C0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