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723135"/>
        <c:axId val="81768471"/>
      </c:barChart>
      <c:catAx>
        <c:axId val="707231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768471"/>
        <c:crosses val="autoZero"/>
        <c:auto val="1"/>
        <c:lblAlgn val="ctr"/>
        <c:lblOffset val="100"/>
        <c:noMultiLvlLbl val="0"/>
      </c:catAx>
      <c:valAx>
        <c:axId val="817684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7231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81C3-508B-4078-A634-295038AC6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EFE5-E67E-4200-A0E5-A931636B1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9C28-34BF-40FF-9FE5-E1CDAAB96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BDD7-70B8-4044-A049-6362A424E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20E0-4921-451B-BDD6-951CDD68C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758A-49F7-4933-A85A-D5538F67E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9B33-3B5E-44BF-A8B3-FFE8E67BF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76EA-7EA3-41DC-916D-11B3C5FD0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99C3-8C56-4E8B-BA2A-A1D9DF75C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9A8D-216E-4CFB-8095-A3859A41C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25ED-62E1-4C9B-9B89-C919B12CB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1140-BEC8-4E44-B077-BCB5E55F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BF415B-E039-4C60-8DBC-0F8BF16E4EC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