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547766"/>
        <c:axId val="19950797"/>
      </c:barChart>
      <c:catAx>
        <c:axId val="895477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950797"/>
        <c:crosses val="autoZero"/>
        <c:auto val="1"/>
        <c:lblAlgn val="ctr"/>
        <c:lblOffset val="100"/>
        <c:noMultiLvlLbl val="0"/>
      </c:catAx>
      <c:valAx>
        <c:axId val="199507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477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0619-7C5F-451A-AB7B-93ACFF45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F82F-8B93-4F49-8A31-14B5C60F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3121-6D61-4D91-B450-3144E2595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9114-60BB-47A1-A40A-F4835C089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6301-22E2-435A-8949-23FB2AA6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F222-7731-43D1-A7C0-240077F1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1D0E-DCD8-459F-B9A3-2126CE12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A0DB-EE3A-437B-9AE3-C067E292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FA37-B67D-44BD-BC2D-3A5C7458D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248D-E9F7-473C-837E-92088D16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FDA8-1764-49EA-A029-43D22715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8F61-EB26-48E1-9EBE-CC65484D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F3CFE-3458-45F3-8B73-3AA38C434C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