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34344"/>
        <c:axId val="35185218"/>
      </c:barChart>
      <c:catAx>
        <c:axId val="945343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5218"/>
        <c:crosses val="autoZero"/>
        <c:auto val="1"/>
        <c:lblAlgn val="ctr"/>
        <c:lblOffset val="100"/>
        <c:noMultiLvlLbl val="0"/>
      </c:catAx>
      <c:valAx>
        <c:axId val="35185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343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C56-B072-49CA-A7BC-BF42BF6E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6E4-F427-43C2-9350-92E8C6EF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94D-2D29-4DDC-8C44-6E254BA9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F00-1B70-4DE2-BAF9-D2EA3603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63F-D714-4DD4-B933-3E565413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8B6-1C09-445F-A13C-17A821D4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47F-6FC6-4CFC-A1E3-87B90F3E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14A-891F-4C84-A5C6-31BB64E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859-D6C7-4DD6-A169-3E9E6A0A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2C4-6F85-46DC-83E9-6F3A2517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352-C364-4D00-A4F3-1081F682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0CB-5A88-4B5E-8809-F9EBD85B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10F24-2E19-4487-A906-77C6BCE47E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