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57957"/>
        <c:axId val="63205733"/>
      </c:barChart>
      <c:catAx>
        <c:axId val="14357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5733"/>
        <c:crosses val="autoZero"/>
        <c:auto val="1"/>
        <c:lblAlgn val="ctr"/>
        <c:lblOffset val="100"/>
        <c:noMultiLvlLbl val="0"/>
      </c:catAx>
      <c:valAx>
        <c:axId val="63205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7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F9B-A4E1-405F-B626-5FC086EF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5BE-BF5F-42D7-B889-AA5367B2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54C-9B27-4DF2-B969-83AA4F8D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B6D-15C1-4F23-B2FC-D2F957E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C74-A5D6-4789-A47E-A7F0976B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4D9-FFC1-4701-A8CB-43A44387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3BF-FF74-4039-B1E8-71432C55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14E-AB34-404B-A201-E533154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09A-B0A2-460C-954A-92A3821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DFD-BA1F-444B-B117-2372B77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C70-D92A-429D-B3A0-A7D0EB3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3DA-D429-4E80-8E67-E4F5715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C9E2F-ED2E-4A69-9D06-49987E5D9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