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071294"/>
        <c:axId val="25611588"/>
      </c:barChart>
      <c:catAx>
        <c:axId val="450712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11588"/>
        <c:crosses val="autoZero"/>
        <c:auto val="1"/>
        <c:lblAlgn val="ctr"/>
        <c:lblOffset val="100"/>
        <c:noMultiLvlLbl val="0"/>
      </c:catAx>
      <c:valAx>
        <c:axId val="256115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712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6DBD-E17B-4E49-A162-AC599CCD4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CADA-0BE2-4367-97D9-6B49102A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3193-A4E1-4B81-B5BA-67325E881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AEC6-72DE-4C9D-BB9F-08534FB7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7938-DD6F-4C7A-8C04-44DA155A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712D-CFA8-4BAF-A4DF-D6B43188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ACDE-5F4F-46DB-9D17-7ACD3BB9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3AF1-63BD-4BB1-83DB-C326130D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C8B1-9A7D-450F-A17A-04E15896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403B-D972-4734-9441-F41A86B4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1808-B16D-4BDF-A9BE-35DE6943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CE9F-9199-45B5-B22F-271EF687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02014-7680-4514-8C99-80217D0B97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