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05294"/>
        <c:axId val="25177616"/>
      </c:barChart>
      <c:catAx>
        <c:axId val="29905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7616"/>
        <c:crosses val="autoZero"/>
        <c:auto val="1"/>
        <c:lblAlgn val="ctr"/>
        <c:lblOffset val="100"/>
        <c:noMultiLvlLbl val="0"/>
      </c:catAx>
      <c:valAx>
        <c:axId val="25177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05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8EC-A495-4F55-A4EF-F2490EC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80B-EF85-4982-BF6C-3BEB2E0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227-B171-49E4-975D-A7D41B40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781-BAD4-4BD8-B08F-E3A063D5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EAD-8DD4-4068-9A42-620CEA5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7F2-AA5A-4B26-A1F6-E579A44E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970-2CCD-4E0C-916B-3BAC978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FB1-1F2A-4C3D-A97D-9176E30D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42D-0AE7-4138-B1A1-E40E0AB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1C4-F946-4E09-B3B3-D62321F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D03-A30A-4629-8592-5572B13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CFC-92FC-4452-B6A5-3C70ADA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ED3A-6A8F-49A0-B73A-EFAD0C8862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