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60864"/>
        <c:axId val="41898578"/>
      </c:barChart>
      <c:catAx>
        <c:axId val="65160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98578"/>
        <c:crosses val="autoZero"/>
        <c:auto val="1"/>
        <c:lblAlgn val="ctr"/>
        <c:lblOffset val="100"/>
        <c:noMultiLvlLbl val="0"/>
      </c:catAx>
      <c:valAx>
        <c:axId val="41898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60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115-A329-4B9F-A37A-F8CB4CFC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A21-03F9-4BF8-BC17-4891D0C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5E8-22D5-4377-92A5-3CDAE178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A5C-4CAC-4E05-8F64-E59722EC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D46-FF65-4A29-890F-2A54F210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6FA-B2FD-4722-A344-A5901116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F79-BEB8-49BA-884D-434F4AD4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CF2-EB01-4F4A-94D1-ABEC20D4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B8C-A673-428C-B25A-B870A78B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5F1-699A-440E-B586-4F7E9A1B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A4F-40A9-4307-B22D-F1E9B65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04F-1E24-4B0A-8821-6BEFCBA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F5ECE-6BCD-4F3F-B1DF-0C19D710CF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