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42059"/>
        <c:axId val="42689729"/>
      </c:barChart>
      <c:catAx>
        <c:axId val="80642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89729"/>
        <c:crosses val="autoZero"/>
        <c:auto val="1"/>
        <c:lblAlgn val="ctr"/>
        <c:lblOffset val="100"/>
        <c:noMultiLvlLbl val="0"/>
      </c:catAx>
      <c:valAx>
        <c:axId val="42689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2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9DC-51E6-4EFE-8844-96006245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CAA-6D3F-471C-B7E6-8B6624C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6F2-142D-4069-8906-D85BBA82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017-514E-4791-8C1A-9DDECDD1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B03-7939-4922-AAD4-9AD4FBA9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E8C-998A-4712-8BEE-6CB83E7E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44D-53C0-4D47-BF45-751D0B0F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D7C-DE39-42BA-93C3-7948A8D9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1F7-23ED-422A-99C4-66DEC5F1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EFB-F52A-4E84-AFA7-522EB2F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240-2597-429C-9E9B-8934EC71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36A-58D2-411A-BF65-D3DFDF2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8062A-AB17-42D5-9CC8-3AE5F8030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