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07277"/>
        <c:axId val="64415639"/>
      </c:barChart>
      <c:catAx>
        <c:axId val="15207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15639"/>
        <c:crosses val="autoZero"/>
        <c:auto val="1"/>
        <c:lblAlgn val="ctr"/>
        <c:lblOffset val="100"/>
        <c:noMultiLvlLbl val="0"/>
      </c:catAx>
      <c:valAx>
        <c:axId val="64415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07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3F2-5D43-4238-8362-DFCE577F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1A4C-8C53-494E-AE92-E4C4C29E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5F8-983B-43CB-AEDC-472FE029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048-DBC8-4D2C-A949-F2C21C74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C2C-2425-45E4-94D6-9C1455DF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42BF-376F-4733-894D-1901B551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A56-21C6-44CF-AA18-632BC5F9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D66-85E4-4F30-BA1B-FD9BA3E0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C49-E4A1-4059-A3B8-A6477C3E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06C-679F-4200-B938-0BDE3ADF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9D6-2A96-4249-8946-1C789B58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A05-F4F5-4DF2-AD65-AB0CAAB6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FC7A5-4395-4841-A620-58ACBD6C23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