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47248"/>
        <c:axId val="49155766"/>
      </c:barChart>
      <c:catAx>
        <c:axId val="29547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5766"/>
        <c:crosses val="autoZero"/>
        <c:auto val="1"/>
        <c:lblAlgn val="ctr"/>
        <c:lblOffset val="100"/>
        <c:noMultiLvlLbl val="0"/>
      </c:catAx>
      <c:valAx>
        <c:axId val="4915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7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0B2-709B-47D3-BE82-B8D7279F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D3D-53E6-4F87-9638-627D83AC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F76-2A3D-4816-91BE-CC922E7D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3CC-7266-469A-9C9A-97354FA7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A2B-C7D0-4463-8F68-06EB11C9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1BF-D2C5-4CA9-90FE-3AD648F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529-6853-42DE-A682-DE584FBB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11F-5A7B-435C-A170-9EAE1862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573-6AA4-4173-9B03-6952780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4C1-9A65-4BB3-88A7-0BCC651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525-4C8C-486F-8C72-3F897C4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B84-5F05-4C8C-BAD6-CACD7B9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064B-8B6F-49F1-93EC-AFC420BAE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