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4658"/>
        <c:axId val="38985483"/>
      </c:barChart>
      <c:catAx>
        <c:axId val="76446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85483"/>
        <c:crosses val="autoZero"/>
        <c:auto val="1"/>
        <c:lblAlgn val="ctr"/>
        <c:lblOffset val="100"/>
        <c:noMultiLvlLbl val="0"/>
      </c:catAx>
      <c:valAx>
        <c:axId val="38985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46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A8C2-63CB-4C1A-9C2A-7A5C0F87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310B-002A-4E1D-9117-11D66C61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A82C-8CA5-4539-A24D-6504A7E9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016-7BD0-4C60-BE6B-1B5867A2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FE88-AC2A-4414-9070-9A13D181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6E9A-43F0-4C22-8025-B9C0D7E2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B85-6195-4310-AC3D-FE9A97A9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E3E0-D814-44A7-8BDE-E78ADA14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E513-C349-47A6-9E3A-333F27CF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526-CB14-4737-BA30-3257B43B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B8E-3FEF-4ED2-A642-B4599B91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DE81-44D6-40EB-BFD5-E8BB269E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A755F-2361-45A4-B593-F7BDC8923F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