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80078"/>
        <c:axId val="2881115"/>
      </c:barChart>
      <c:catAx>
        <c:axId val="99980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1115"/>
        <c:crosses val="autoZero"/>
        <c:auto val="1"/>
        <c:lblAlgn val="ctr"/>
        <c:lblOffset val="100"/>
        <c:noMultiLvlLbl val="0"/>
      </c:catAx>
      <c:valAx>
        <c:axId val="2881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80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E36-9B30-42AB-8F85-EE4B050D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642-CCFE-453C-B18D-E8860B88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F55-9D11-418A-8E82-A9AA6B47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F65-A3EB-4F82-A30E-4EF633D3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7AE-2E41-417B-BD72-C69225B0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802-B33E-4597-BCB3-8C28C10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98A-FF30-4ADF-B9FD-AABDDE9A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DA2-A3C5-4735-A51A-717AE20A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DC0-A496-4D99-B407-2486B6D9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071-7064-4CA0-B6F1-D44355C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B9B-33F7-4E83-9BA7-26C2E77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1B7-6AB4-45CB-84B6-6EE89DF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61435-18F6-4082-8F02-886AD3B74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