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57760"/>
        <c:axId val="55700960"/>
      </c:barChart>
      <c:catAx>
        <c:axId val="10857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0960"/>
        <c:crosses val="autoZero"/>
        <c:auto val="1"/>
        <c:lblAlgn val="ctr"/>
        <c:lblOffset val="100"/>
        <c:noMultiLvlLbl val="0"/>
      </c:catAx>
      <c:valAx>
        <c:axId val="55700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57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5B7-9BA9-4B13-8E34-22A97B29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597-16E7-417D-8493-A96DCE4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D88-3917-461F-9E31-D8859378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F2F-1DFD-43EC-92D1-3336B1BB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94A-2DAE-4DE5-8655-1887A89E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6CA-C6E2-4C6A-8DD7-2E72BBC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072-EAD9-4B79-B4C2-6664142E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F03-B893-45C5-97FF-69E244A6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AD4-2E0C-4BEE-89A2-49A9BEA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A2F-5D62-4BE6-971D-D336954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DC4-622F-4354-B7CF-F05D6D7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C17-D31C-43EF-9318-D4267D0E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43365-F484-4E79-AAD0-26C0F17A5B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