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96665"/>
        <c:axId val="79639186"/>
      </c:barChart>
      <c:catAx>
        <c:axId val="56696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39186"/>
        <c:crosses val="autoZero"/>
        <c:auto val="1"/>
        <c:lblAlgn val="ctr"/>
        <c:lblOffset val="100"/>
        <c:noMultiLvlLbl val="0"/>
      </c:catAx>
      <c:valAx>
        <c:axId val="79639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96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574-8972-4642-9352-199C5EE5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AE0-8CB7-4BD5-AAE5-7B9002D5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B10-04C4-42C6-B353-850D0F39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42B-9346-43AB-98D9-B1D2A802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F13-9C02-469E-AB30-DE4AF355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2EC-E1D5-435A-B8DA-8A32B0BF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36E-7183-41D0-8996-E752A2FD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B7A-01B1-4C07-8D37-0BADAC81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651-420C-4E84-80B6-DF6080C3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EDE-598E-4EE1-AB40-FA41B659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2A0-F900-41B1-9724-BF40A015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2B3-1E9E-4528-8CC6-1A3B9142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B0559-5002-4925-9F78-F84B2AB721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