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29454"/>
        <c:axId val="94608089"/>
      </c:barChart>
      <c:catAx>
        <c:axId val="38329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08089"/>
        <c:crosses val="autoZero"/>
        <c:auto val="1"/>
        <c:lblAlgn val="ctr"/>
        <c:lblOffset val="100"/>
        <c:noMultiLvlLbl val="0"/>
      </c:catAx>
      <c:valAx>
        <c:axId val="94608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29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A85-8F21-4221-A4ED-A297C8FA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3E8-9DBE-4217-B2E1-8F7121DB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FF8-5885-41B2-81F6-33066BFD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BDF-09D4-4E51-9C02-BF3E7638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E68-7BE3-4A5E-BDA0-7833281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783-7F13-40B7-866D-8E3D5697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382-BF4B-408C-9F18-6F2E049C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393-46D1-48B6-8ED4-FCB225EA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66A-BAF7-42A5-9AC4-78CA996D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1FB-B6E5-4146-8730-A9B5A1E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26A-A31D-4FB6-B78D-7052D6E0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F68-6DDE-4904-9D61-5A7FA7AB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5DE61-E3A8-494F-A80F-A6D0494A89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