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77543"/>
        <c:axId val="59637420"/>
      </c:barChart>
      <c:catAx>
        <c:axId val="33977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37420"/>
        <c:crosses val="autoZero"/>
        <c:auto val="1"/>
        <c:lblAlgn val="ctr"/>
        <c:lblOffset val="100"/>
        <c:noMultiLvlLbl val="0"/>
      </c:catAx>
      <c:valAx>
        <c:axId val="59637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77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D5A-2A91-49BE-A5A2-3B1F7D27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DEB-BF4A-41D5-8268-680E804E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A72-39D1-4B61-AA2F-87F62EE6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2AC-2A4C-403A-AC07-B5DE077E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D7B-D752-484E-808B-44C18FA6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AF2-C5BE-4AE8-B963-83D5684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06A-1610-46AA-952E-1925968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26B-D8F9-4E4F-8553-EBDC0AC4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AF9-5A83-4A1C-AC98-E02C720C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114F-6A35-4D08-9E30-BD2AB755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902-23CA-4574-B757-71EAC1F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D5C-80CB-4453-AAA3-EF8E3DE6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41820-7C60-45A8-95A2-4986CF439C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