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2103376"/>
        <c:axId val="18551947"/>
      </c:barChart>
      <c:catAx>
        <c:axId val="4210337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551947"/>
        <c:crosses val="autoZero"/>
        <c:auto val="1"/>
        <c:lblAlgn val="ctr"/>
        <c:lblOffset val="100"/>
        <c:noMultiLvlLbl val="0"/>
      </c:catAx>
      <c:valAx>
        <c:axId val="1855194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10337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20481-C453-4DA2-8BE7-F4C612104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F193D-E5FE-48C4-B2B2-67932EC3F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08080-4F45-489F-97FB-A24E42EFC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0C0AB-F6C5-484B-9E3D-689AF4131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9CEFD-86D1-4346-BD23-6D729931C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44628-E3F6-4620-BCA5-C6D0C2326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6B23F-B918-48D7-B1D1-42358413F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31886-D52A-4A3C-AF3D-8495A1552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742F0-0719-4295-8838-CAEED55A1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0D125-4B0A-4246-A8DB-9BB932A42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6E27D-EAA7-43EE-A74D-B3B8C7390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78D67-6AFF-4095-9840-A01A46521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37170C-1AD4-431F-9E16-8A349332020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