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91544"/>
        <c:axId val="71499482"/>
      </c:barChart>
      <c:catAx>
        <c:axId val="99891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99482"/>
        <c:crosses val="autoZero"/>
        <c:auto val="1"/>
        <c:lblAlgn val="ctr"/>
        <c:lblOffset val="100"/>
        <c:noMultiLvlLbl val="0"/>
      </c:catAx>
      <c:valAx>
        <c:axId val="71499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1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FAE-8521-49CA-9426-1F136472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BEF-7CB7-4AF3-8A6C-1C3C81F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B83-BF0C-4945-9D52-62B8A911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6CC-D6DD-4303-A437-E07E1C04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728-5382-4352-BD47-C959B487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C92-C488-4FE6-ADAA-450E5A3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20A-6876-4240-AC30-A2B7524E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5D5-74F6-4DFB-A132-B17A352A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592-0AC7-4BA5-A4E4-A03748DB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EA8-3038-41AE-A161-9403ABF5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3CC-DA25-459C-A03C-E7F44CF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6305-271C-44E9-A25E-7B9FB0E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517A6-DD26-43A2-A8B0-B9345ADB9C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