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45387"/>
        <c:axId val="92541279"/>
      </c:barChart>
      <c:catAx>
        <c:axId val="48745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1279"/>
        <c:crosses val="autoZero"/>
        <c:auto val="1"/>
        <c:lblAlgn val="ctr"/>
        <c:lblOffset val="100"/>
        <c:noMultiLvlLbl val="0"/>
      </c:catAx>
      <c:valAx>
        <c:axId val="92541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45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E5B-CC03-43E8-935F-989468BB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B14-AED6-4CBF-91CF-763EFB96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1A0-7126-44D7-8D68-33B9023F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8FD-6A2A-4538-8158-12BC6BCB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338-AD0F-47AB-9A2D-060EBEC1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B85-1765-4753-99AD-68AD745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A2D-E9A5-4F36-9143-4DC633A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AF8-8926-4987-A2E6-9C669BF5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94F-1539-47CE-A94D-B30BFFB8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A92-F968-4FA0-95EB-944D5ED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56B-0091-475F-8F15-E73B251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D79-53DF-482E-BFED-CDBC489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01595-1EEA-46B0-B5CB-D1563236E4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