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950678"/>
        <c:axId val="51240872"/>
      </c:barChart>
      <c:catAx>
        <c:axId val="869506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40872"/>
        <c:crosses val="autoZero"/>
        <c:auto val="1"/>
        <c:lblAlgn val="ctr"/>
        <c:lblOffset val="100"/>
        <c:noMultiLvlLbl val="0"/>
      </c:catAx>
      <c:valAx>
        <c:axId val="512408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506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02D9-1FD5-437B-84F1-3DD2D8052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1848-7F1F-4271-A175-DBB8EC0E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8328-4E43-477E-AC2D-8EBBA7C7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D94E-9ADC-46B1-A79E-9A966AAB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83B5-41FF-41F5-9243-F7B5BFE3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0CB6-FD2E-4F66-A06D-80213489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65B4-C557-4406-9D8E-87E8F546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366F-B2B3-4632-BB7F-80DC5CE5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C1A4-C207-4B5D-A970-FAFFEDA6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F504-8436-4CCC-8810-5B028E74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EDE8-787C-4F2F-9620-16E4548D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FD4F-DBBD-4F86-B766-9374F542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4256C-8F58-4DA5-A733-9452517130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