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173088"/>
        <c:axId val="66566067"/>
      </c:barChart>
      <c:catAx>
        <c:axId val="161730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66067"/>
        <c:crosses val="autoZero"/>
        <c:auto val="1"/>
        <c:lblAlgn val="ctr"/>
        <c:lblOffset val="100"/>
        <c:noMultiLvlLbl val="0"/>
      </c:catAx>
      <c:valAx>
        <c:axId val="665660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730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7669-CD3B-4332-8335-D239204F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E5C3-4887-453F-B3EF-7408A5D8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20C-8A1B-4CF6-91FA-BEAC6DB4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F6E6-7409-4BE9-8F83-3358A073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6020-FA03-472B-9879-E8C5CEE1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F4F-A114-402C-A5B8-BEF1F2DA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3128-738F-4BB0-9E0A-C609659F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1CC4-E3B4-4CDE-A5B3-F5A88237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D286-0D13-40CB-927A-F376FC92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10F3-74D1-4B42-8712-C8C677A6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7A80-DF96-4AF0-9033-1D45CC43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1DDB-BB64-401E-801C-12B3EAAE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A504D-0BE6-48B3-A7F6-D336D6C40F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