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814306"/>
        <c:axId val="89505175"/>
      </c:barChart>
      <c:catAx>
        <c:axId val="788143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05175"/>
        <c:crosses val="autoZero"/>
        <c:auto val="1"/>
        <c:lblAlgn val="ctr"/>
        <c:lblOffset val="100"/>
        <c:noMultiLvlLbl val="0"/>
      </c:catAx>
      <c:valAx>
        <c:axId val="895051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143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F9A0-93D0-40BB-9401-2984399F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D933-85E4-4663-99BC-95A98287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70C3-9172-4DFD-80B1-5E8C9321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792B-ACAE-4C25-A6DA-5B92F5F6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309C-3065-4F3F-872A-E82B6054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6A52-EA75-4FD2-BB5D-1DC81375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F395-5276-464F-8A6D-CEFAD47A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100-0687-4DDC-B81D-3069C45E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51B3-077B-4526-B20E-D685F928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8AEF-473C-4FB9-B044-121C96B5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2A71-39E1-41BB-A6A6-C6E14748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27C9-3AC7-4061-B2A6-FCB0A9CD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A2C94-BA03-49BD-8003-11789497B3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