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18887"/>
        <c:axId val="36781441"/>
      </c:barChart>
      <c:catAx>
        <c:axId val="39118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81441"/>
        <c:crosses val="autoZero"/>
        <c:auto val="1"/>
        <c:lblAlgn val="ctr"/>
        <c:lblOffset val="100"/>
        <c:noMultiLvlLbl val="0"/>
      </c:catAx>
      <c:valAx>
        <c:axId val="36781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18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075-5BC1-4F2F-A8F5-3658EBF4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CC46-AFF3-4EF5-ACC2-71D26AFC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E94-811C-44F2-AE6B-CA2F56F2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6F3-8647-4AFA-8892-5CE90574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EE5C-0436-41FF-AAEA-FA3538FA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FA3-4754-41E6-AA04-BA244BDB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E093-9287-44C5-8755-E6B14B9B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51A-F05A-4A02-AFA4-3D11BDB2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97F-1ACF-4229-8C1F-5927E694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5992-5DEB-44DD-A8E2-805BAB43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DA8-EDC8-4543-A203-A6FD6610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5DD0-D9D5-401B-8506-ED7C5949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EDE1B-7960-40B0-853B-D84A83F9FD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