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034038"/>
        <c:axId val="93658433"/>
      </c:barChart>
      <c:catAx>
        <c:axId val="720340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58433"/>
        <c:crosses val="autoZero"/>
        <c:auto val="1"/>
        <c:lblAlgn val="ctr"/>
        <c:lblOffset val="100"/>
        <c:noMultiLvlLbl val="0"/>
      </c:catAx>
      <c:valAx>
        <c:axId val="936584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340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8CB7-A6F6-4820-880F-02ED1F065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DED7-E9BF-4EDF-84FC-D637C8CE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34DE-1829-42F3-A988-25D3AF70C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4A80-3329-48D1-A860-CF8FC68C3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F320-6F61-474E-BFF2-0B890843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21C8-CABC-48D7-AEAD-4A60DC02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B876-E714-4D46-B3EA-278187B8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78C4-0490-4B87-92FD-A3C51C62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1616-B5D4-4ECF-8F27-AA507FE6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0295-E003-4827-96DD-538968C1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7494-81DE-4989-9370-E0F94A6F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CF9E-CEA8-4920-A09B-35494EDE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2BD5D8-0E4C-40F3-95FA-5EBC13EA37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