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02030"/>
        <c:axId val="40744083"/>
      </c:barChart>
      <c:catAx>
        <c:axId val="69602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44083"/>
        <c:crosses val="autoZero"/>
        <c:auto val="1"/>
        <c:lblAlgn val="ctr"/>
        <c:lblOffset val="100"/>
        <c:noMultiLvlLbl val="0"/>
      </c:catAx>
      <c:valAx>
        <c:axId val="40744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02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5A8-BF3D-4F69-BA98-E7A6EF74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E10-0C6E-4248-A606-7584F17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592-776E-4119-A956-520AEFA9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8F6-D0ED-437A-BD84-C5AB4939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E82-5E06-4389-8848-C4BD23A7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0D3-D041-430D-9A91-878EA60F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3A2-E983-419F-AF2F-DA1515BF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85C-6FAF-4E65-9E4C-32C085AC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DC4-01D5-4CD9-9EF6-2FACC11F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7A3-A639-4132-B1CF-DE53702B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404-1D56-4D41-B397-8127BEF8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095-B728-40D8-A2FB-80AE11DC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CF7C4-A4FC-4017-9B97-014769C591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