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06572"/>
        <c:axId val="57156897"/>
      </c:barChart>
      <c:catAx>
        <c:axId val="15606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56897"/>
        <c:crosses val="autoZero"/>
        <c:auto val="1"/>
        <c:lblAlgn val="ctr"/>
        <c:lblOffset val="100"/>
        <c:noMultiLvlLbl val="0"/>
      </c:catAx>
      <c:valAx>
        <c:axId val="57156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06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96F-6900-40C9-9C9C-375CB1BC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1D70-DF00-489D-AC3D-B574420D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693-7552-4CEA-BEC0-3DA1957E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3B5-1945-4D03-A61E-592AF593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8F4-3A17-4528-856C-43ED1720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CFF-993E-4D69-A34B-A2B3558A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EA1-A326-4524-B95F-8B6842E9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BA6-5FB9-40AF-8FBD-82439033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193-CA39-40A4-81B7-616F3BEB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E4F-D0AE-4939-A9CA-493A21DB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FE9-A4CC-4D41-A528-04A10E8F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51E-2A55-44C3-B3F1-3E9CE0A9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25DCD-378B-4A37-A910-8FC80CC0FE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