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82784"/>
        <c:axId val="53683953"/>
      </c:barChart>
      <c:catAx>
        <c:axId val="25782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3953"/>
        <c:crosses val="autoZero"/>
        <c:auto val="1"/>
        <c:lblAlgn val="ctr"/>
        <c:lblOffset val="100"/>
        <c:noMultiLvlLbl val="0"/>
      </c:catAx>
      <c:valAx>
        <c:axId val="53683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82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A0B-1A66-4E88-B969-8E93D064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013-1B70-4DCD-A8BF-68170C22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F72-BAB1-4409-984B-99AA0D98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101-A341-4DC7-8E40-3EF23802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FE0-0C55-41DD-ACD2-43CC661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C52-983B-49F7-A3E0-17FDC47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A0B-1BE6-4BFF-A3FB-03E9C09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AA3-AB3A-4B8D-87FA-6AF9D54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CA3-7F90-489E-932E-C3AFE611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FF5-5469-4FE0-9C87-FE051AF0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29B-E6CB-439D-AD52-41A9A10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1CE-5504-43DA-8025-7DD6B43B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1D56-413E-4A7F-9B70-5CC73EDB4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