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558834"/>
        <c:axId val="12010699"/>
      </c:barChart>
      <c:catAx>
        <c:axId val="395588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10699"/>
        <c:crosses val="autoZero"/>
        <c:auto val="1"/>
        <c:lblAlgn val="ctr"/>
        <c:lblOffset val="100"/>
        <c:noMultiLvlLbl val="0"/>
      </c:catAx>
      <c:valAx>
        <c:axId val="120106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588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97A4-6761-434C-A75F-15712046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AD74-EEE4-4DC3-B320-663AC444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7F11-4246-4A06-AC8F-4D0D9F04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F81E-95F4-434A-94E8-94C7472E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5AFA-1991-4BEF-AF2A-CAB5A95A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7740-DEC2-462A-8621-48167101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FEFD-5CF5-43E2-BC45-8E36958E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6F97-8311-4F61-B153-49AF671D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8C43-AAE9-4B52-AADD-CC80B95A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B4DA-D92F-4FE6-8088-A4F6F031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C5D-CD50-430F-A1BD-328E3933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2B18-BAC1-4D3F-9251-E35F9F0D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6713B-97E7-476B-8076-AA3666530C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