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85917"/>
        <c:axId val="45490302"/>
      </c:barChart>
      <c:catAx>
        <c:axId val="11385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90302"/>
        <c:crosses val="autoZero"/>
        <c:auto val="1"/>
        <c:lblAlgn val="ctr"/>
        <c:lblOffset val="100"/>
        <c:noMultiLvlLbl val="0"/>
      </c:catAx>
      <c:valAx>
        <c:axId val="45490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85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08F5-EA33-4250-8A99-C83F9439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28F7-3574-44B7-99AC-81F7DAF7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CC6F-9AC6-495C-9B14-6DFDFABC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EE1-B3AA-4B3F-B5A4-4F4FFA52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1C9-78EB-49C8-918F-A1A70092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BB31-4831-48A1-9B9F-70120C2C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E97-BAD7-4DE9-9805-F3AA3367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0DB-CB87-4C7A-9283-AFB0EC82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DEF-B536-4E39-A08F-28072E1C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513F-77A6-4089-AC12-7669D6BE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6C7A-FF0C-4C28-AE6D-E83AF7E7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BC1-741F-4393-B433-208E4DB3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FAB76-8DAD-4A2B-ACEE-96DD4A8D12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