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745941"/>
        <c:axId val="27005934"/>
      </c:barChart>
      <c:catAx>
        <c:axId val="29745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05934"/>
        <c:crosses val="autoZero"/>
        <c:auto val="1"/>
        <c:lblAlgn val="ctr"/>
        <c:lblOffset val="100"/>
        <c:noMultiLvlLbl val="0"/>
      </c:catAx>
      <c:valAx>
        <c:axId val="27005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5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E1E8-C1A1-4AE8-B294-E2D39D43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2C8-FB44-45DB-9C85-E5255233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F7E-8F2C-41D2-98D7-3C746466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0A7-2562-449F-972F-4DF65A44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BB9-FFC7-456E-AAFC-0013B7D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1CF-96FB-4699-9C80-8F123475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7C3-D1A5-483F-8AEE-FF8AEF90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D3A-A532-4D83-90F3-A759BFFA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BB7-E130-4CC5-A1D2-E1E4B14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41D-3862-4F54-81FA-2B51CD31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43B-477E-4448-B1B7-042B430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30E-D977-437E-80A7-5424F15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C81A-407F-4B33-8450-447C79E9D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