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93525"/>
        <c:axId val="93731840"/>
      </c:barChart>
      <c:catAx>
        <c:axId val="19293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1840"/>
        <c:crosses val="autoZero"/>
        <c:auto val="1"/>
        <c:lblAlgn val="ctr"/>
        <c:lblOffset val="100"/>
        <c:noMultiLvlLbl val="0"/>
      </c:catAx>
      <c:valAx>
        <c:axId val="93731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93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FA2-95CA-40F3-B5AB-B1184312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385-D1AD-413D-86D6-1ED0B41E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BA5-A5AA-4D3F-BDC9-3C69ACE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77F-2701-4C34-8E0B-512CC291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7EB-8491-4FA2-99D5-652863D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509-17C4-409D-9FD7-C46E7BA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A5B-02D5-4564-BC8A-3E0BF48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EC5-EAB1-4445-A932-EA6A0DF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9D-C536-4168-AFF7-37BFE33C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EA1-5D0A-400E-98E8-F959B91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2BB-779E-4174-8B7C-DBEB358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79F-10BB-4165-A58B-C0DD294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55A87-4046-4943-931F-69860B8979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