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54595"/>
        <c:axId val="69794687"/>
      </c:barChart>
      <c:catAx>
        <c:axId val="64954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94687"/>
        <c:crosses val="autoZero"/>
        <c:auto val="1"/>
        <c:lblAlgn val="ctr"/>
        <c:lblOffset val="100"/>
        <c:noMultiLvlLbl val="0"/>
      </c:catAx>
      <c:valAx>
        <c:axId val="69794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54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6F0-A78A-43A3-B3D7-84D112EA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3C1-EC42-4ED1-85F8-955D1CD9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04D-7103-47A1-9E3B-32CA7BFF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6FF-DCE1-4836-9795-6C4CDA62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E5E-1908-4E7F-8B53-2504D61E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66F-7239-4B9D-BA2C-F09B4F8E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B5E-EE84-4456-A21F-C418AAEC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D9E-1878-4FEA-80E9-3B016D6E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4AD-9163-4B3A-BD1B-A80C7F45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953-DEEC-4654-9E96-D2B4ED4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71C-263B-498A-A740-D4637198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84E-575F-434A-8E72-4C1D433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DCAA9-E440-4238-9FAC-C74F05BE2B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