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254275"/>
        <c:axId val="74854502"/>
      </c:barChart>
      <c:catAx>
        <c:axId val="762542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854502"/>
        <c:crosses val="autoZero"/>
        <c:auto val="1"/>
        <c:lblAlgn val="ctr"/>
        <c:lblOffset val="100"/>
        <c:noMultiLvlLbl val="0"/>
      </c:catAx>
      <c:valAx>
        <c:axId val="748545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2542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E6BF-0A39-4F6F-BA3E-31F694EC1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4F00-929C-4BDC-ABC6-47B76BA6C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BC62-B8C0-46DB-9767-B9E7B134B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70FE-5674-48E1-AB8E-D26AA2BF8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C720-DE68-4754-92DE-E0B88DE67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2298-515A-4F5E-B707-CDAD8F0B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8AC9-C3D3-4145-944F-D99BCB53A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7F54-1876-47A3-B14A-587077050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4899-01A0-43C2-826F-C3DDFD227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655B-546C-405F-BAE3-0279B530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E773-CFC7-4242-94D4-35CD5A29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72FC-F641-4A2F-9852-8A0622C7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11C6B6-09AF-4CCC-ACD8-B3796051A87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