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14532"/>
        <c:axId val="99756803"/>
      </c:barChart>
      <c:catAx>
        <c:axId val="1231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6803"/>
        <c:crosses val="autoZero"/>
        <c:auto val="1"/>
        <c:lblAlgn val="ctr"/>
        <c:lblOffset val="100"/>
        <c:noMultiLvlLbl val="0"/>
      </c:catAx>
      <c:valAx>
        <c:axId val="99756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1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FC5-9E97-4793-8D1B-8D1BC7E2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11B-D08D-499A-B528-E43A5933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267-4C8C-4306-977E-0700E35A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1A5-F19E-44FA-B682-8E12696B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D3D-5B79-446C-A1CB-AAA5B73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EA3-A866-4C32-8856-56D2929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767-2499-4736-A9D4-1FC3A2FC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004-893A-45A1-A3B0-42380DF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FFB-A003-482E-ADB6-301C3AD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E89-BC2F-4FA7-9E04-70C2A65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D1F-13AE-451E-BB67-209ED8F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FFA-2573-498C-8ED5-E7B5FCD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9574D-6BE2-43AD-9629-2E7052AD9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