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21050"/>
        <c:axId val="55174879"/>
      </c:barChart>
      <c:catAx>
        <c:axId val="28921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74879"/>
        <c:crosses val="autoZero"/>
        <c:auto val="1"/>
        <c:lblAlgn val="ctr"/>
        <c:lblOffset val="100"/>
        <c:noMultiLvlLbl val="0"/>
      </c:catAx>
      <c:valAx>
        <c:axId val="55174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21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3F7-EEE4-4910-8577-6FE6B994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C99-1AEE-4E7B-B22F-9C20C1CC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B2A-F62E-4FE4-A706-3EFC821B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1A2-A8E6-4907-B472-C0B9706D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C35-1B13-4F09-894F-60BA67E0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4D3-E43C-44C0-B807-6755FE8F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5CE-01E2-42AC-B539-A24BBAC5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251-FCA1-4C52-A55B-AE2C5E3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853-CA62-4B56-8205-6FC4C34C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71A-950B-4B57-A518-D2569381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E37-F807-4BDA-90B2-827EF644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94E-7B4A-4DEC-B3C0-DCAA1B4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BA5D1-02E6-45B1-9C02-15B71287E4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