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1647"/>
        <c:axId val="25672200"/>
      </c:barChart>
      <c:catAx>
        <c:axId val="1061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72200"/>
        <c:crosses val="autoZero"/>
        <c:auto val="1"/>
        <c:lblAlgn val="ctr"/>
        <c:lblOffset val="100"/>
        <c:noMultiLvlLbl val="0"/>
      </c:catAx>
      <c:valAx>
        <c:axId val="25672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1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A58-D021-484E-8C29-A26FFD0B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19C-8DFD-4C29-9B4C-2A822163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4F6-779A-47D1-97E4-115CAC8C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938-D474-4C34-B3FC-B5EFD80E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B30-540F-4F88-A6D7-DD87FA8B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025-AA1E-40FB-9BA4-9BFC9128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A13-6819-427E-883D-73EDFB37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897-0923-40B6-A560-E2E3904F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D56-3BE9-4C49-A19B-DEEC00CF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6C3-8C4E-4A41-BCAB-E6C116AE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737-34A0-4993-AD02-3840215A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B98-52A2-4EBC-9753-75DA2B7D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6B934-0FE4-4DC2-8DCD-00D65BE663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