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85640"/>
        <c:axId val="39229621"/>
      </c:barChart>
      <c:catAx>
        <c:axId val="78985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29621"/>
        <c:crosses val="autoZero"/>
        <c:auto val="1"/>
        <c:lblAlgn val="ctr"/>
        <c:lblOffset val="100"/>
        <c:noMultiLvlLbl val="0"/>
      </c:catAx>
      <c:valAx>
        <c:axId val="39229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85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D19-1F68-44FC-BE7F-84C061BE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52B-26EC-4A77-A7EB-4333201C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737-DCD1-480F-825A-2F93F9FD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A28-9AF2-4BDF-AAD8-DF958A39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A0B-9941-4220-A539-CF7F3285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DBE-7A7A-4ACC-B8D6-C3EFDEA7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69F-987B-4F40-AA96-EAA594B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BC5-4CCF-4E5E-9C33-B64C7746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7B0-497E-43E3-82F7-B732228A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C49-0E62-42E4-B215-58E66C0D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015-522A-4ACD-8448-431B458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AE1-B8B5-407B-8EBD-879BF702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593AE-93D3-4877-8168-77DF31DE5B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