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08367"/>
        <c:axId val="8170581"/>
      </c:barChart>
      <c:catAx>
        <c:axId val="77608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0581"/>
        <c:crosses val="autoZero"/>
        <c:auto val="1"/>
        <c:lblAlgn val="ctr"/>
        <c:lblOffset val="100"/>
        <c:noMultiLvlLbl val="0"/>
      </c:catAx>
      <c:valAx>
        <c:axId val="8170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08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876-5840-4270-8EC8-56702175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1E8-09BA-426D-943B-8398FC08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960-9791-438F-8C01-A3A18261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1EC-8E87-426A-B331-9A00BBF6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955-0127-45C0-B332-BBF65591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5D8-0C04-43B6-AEAB-1F208C7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102-76B9-4669-889B-00FF29E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61E-CF9B-4920-9D2F-AC60FB4D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D09-7F49-45AA-96E2-693C7902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066-4945-4D69-BE4B-C48BA45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DA1-880D-4146-8A1D-9A3374A3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3EF-ACA4-4506-8140-8380C0C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022C9-48CF-450A-B1A5-7F752ADAD7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