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70406"/>
        <c:axId val="5244647"/>
      </c:barChart>
      <c:catAx>
        <c:axId val="75870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4647"/>
        <c:crosses val="autoZero"/>
        <c:auto val="1"/>
        <c:lblAlgn val="ctr"/>
        <c:lblOffset val="100"/>
        <c:noMultiLvlLbl val="0"/>
      </c:catAx>
      <c:valAx>
        <c:axId val="5244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70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A4C-DC2C-477F-907D-D142DF82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D46-E117-4C88-B044-070A05C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45B-0116-45B3-82BE-D981BD75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797-9675-4300-9F9C-FDF051F1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A54-FC75-49B8-9938-DEA5AC39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9E1-4518-456A-A75F-08246821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164-5A27-485F-B3C9-21F3D5B9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D12-EFCA-4506-B13C-565F174B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534-6D32-47E6-BE8F-11E97826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56B-2BF6-48B8-BEBF-2E5D27F5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3BE-E2F9-4EFB-ABB6-83F7419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050-6297-4BBB-8B9C-5A52D411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AC5BA-6C68-4BF4-93A9-48B8F101A2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