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06817"/>
        <c:axId val="15190411"/>
      </c:barChart>
      <c:catAx>
        <c:axId val="71406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90411"/>
        <c:crosses val="autoZero"/>
        <c:auto val="1"/>
        <c:lblAlgn val="ctr"/>
        <c:lblOffset val="100"/>
        <c:noMultiLvlLbl val="0"/>
      </c:catAx>
      <c:valAx>
        <c:axId val="15190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06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CA4-C7F5-49F4-B7BE-83A1E377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A36-0815-4E40-9398-FF260405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B51-981F-4C8F-971A-F3803F68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49C-E8C1-4CD4-B381-86ED0744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BBF-32EF-497C-9010-2898C638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07C-35DE-4CCE-9187-CD52B92E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4A4-E635-425F-9D0C-4787AD94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D46-0AB9-403A-B157-696D13D8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C1B-CE43-44F3-926F-A2EE98B3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552-A52D-440E-B7EA-876886B9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F41-C7E3-4C20-8551-96E5545A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20B-09C1-499F-911C-F213671B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B410D-473C-4E85-BA26-564F5ED67E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