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97045"/>
        <c:axId val="32012803"/>
      </c:barChart>
      <c:catAx>
        <c:axId val="16597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12803"/>
        <c:crosses val="autoZero"/>
        <c:auto val="1"/>
        <c:lblAlgn val="ctr"/>
        <c:lblOffset val="100"/>
        <c:noMultiLvlLbl val="0"/>
      </c:catAx>
      <c:valAx>
        <c:axId val="32012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97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9F0-575C-491B-B6B1-30BB13A4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546-40AC-4113-AC61-053D1C2B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4A6-D709-4D23-960F-EC38AD01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CFA-7D93-4AB7-9BFB-7D87D468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10E-BA7D-43C3-9075-D3C7D3EB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5D7-5347-4D5C-86B3-DB9EA985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156-4A36-4205-BBB2-F2AD2260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B44-02F9-48C3-B6A3-73ADD789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F19-613B-49AB-98B0-A5A9F178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0E9-F3AD-4AA4-8E79-39DD2434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B01-A418-4B91-A4FF-27191BBC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F9C-9620-4C0D-B953-0B9AF246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99F00-9C0C-404E-98A9-B389DD576A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