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95281"/>
        <c:axId val="2800525"/>
      </c:barChart>
      <c:catAx>
        <c:axId val="76395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0525"/>
        <c:crosses val="autoZero"/>
        <c:auto val="1"/>
        <c:lblAlgn val="ctr"/>
        <c:lblOffset val="100"/>
        <c:noMultiLvlLbl val="0"/>
      </c:catAx>
      <c:valAx>
        <c:axId val="2800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95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6B3-6084-4230-844E-01047515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D13-E2E8-48B3-B5D5-61D65755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771-5BDB-466B-99D9-49DDA7F3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6BE-0192-4519-B247-3CE61E73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AEE-ABC6-4D18-9B98-8C9F9102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677-1DF1-4020-84E5-CDE8932D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975-4784-4C8C-BCED-CF830354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54F-5D60-4816-B561-6069C32E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8F8-2881-4592-A798-A3B917E2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E0F-C5A7-497E-AA71-872CF23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1BA-ADA3-4092-AA3C-8D5AEB17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79B-0314-40B2-9B55-7C7831BD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F8076-DC2B-4B24-9892-60F85499DF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