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3770598"/>
        <c:axId val="37612504"/>
      </c:barChart>
      <c:catAx>
        <c:axId val="2377059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612504"/>
        <c:crosses val="autoZero"/>
        <c:auto val="1"/>
        <c:lblAlgn val="ctr"/>
        <c:lblOffset val="100"/>
        <c:noMultiLvlLbl val="0"/>
      </c:catAx>
      <c:valAx>
        <c:axId val="3761250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77059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E9925-78FC-4F91-AA80-2A41BC171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C168E-F823-4253-B088-728709CFC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E2498-C1C4-4FEF-8F8B-327546B2F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3DB4A-8F0E-40E1-8623-11EB62B57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628E9-1A26-4619-963C-A1D03609F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F4AA1-E9BB-410A-BB61-0C2E4D78B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417BA-ECEA-4844-A3FA-767ED1D84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EB2DF-3261-4446-B982-E305468A4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E7E97-B5C1-414E-ACFE-4680EA1CF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8B676-EB67-475B-BE87-29F2CCB9B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B2A7B-5162-47D2-9D39-D432A1189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7B588-CB76-442D-A966-D45C40CE9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32CEB5-DA3F-434E-B8E1-836874EB2E5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